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81A4-E0FC-487D-B11A-3E821CC58F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7FB4-1434-4A46-8CB7-C56F2B9A658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4B7D-D166-45FD-9B12-A4429A3AB06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68BC-B741-4E31-AD8F-6AE58F06BA9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01AA-A295-4DDE-8366-F2296A36B16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6005D-31FB-409F-8337-EEF14867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79AB3-6CC6-4D2C-96DD-92A9B391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A4B59-A3CD-4524-9CF5-27103625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2C020-75AA-49A6-99C2-01CE4981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22464-9C5C-4065-8E65-EE288D11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9C552-E025-474B-B927-C9170D6F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AC516-5D4D-4572-9180-787CE29D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C6691-4502-48B9-BC28-22C1A863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7F986-249F-4996-B733-D2E0E387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A7F8C-E07F-4AD9-86B2-A8C6B98F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E9088-841E-4CAF-B3D6-87775B26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19AF6-B0FD-4F75-ADD7-18A89564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EA3487-4A6B-42B9-A812-EEA26474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6A268B-2C45-4AAB-BAFA-E4E95386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8D55AC-5B37-44E3-84F8-01E350FC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FE01E-FA2D-43C1-96DE-018730C9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A7CCB6-BEA7-4114-B26A-EF9D4400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821F6F-7A80-4434-96B1-811239E8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0DEAD-4571-4128-B05F-47248A9A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802BD8-4B8B-4F15-A318-80D8EB88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9CFB07-6BD6-4587-8652-6480A44B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C88FD-DB60-40E5-9AAB-E1FDE65E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01CCF-8E0A-4DCF-8817-0850F400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66E143-E5D7-4E4C-96BF-E3ACC27E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6DB3-68E4-4467-94EC-79919D41ABE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168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50ED-5280-4563-A064-F7BEF4BA36FF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B693-F073-416A-9DAF-7F51A19112B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664A-51A1-4A73-83D9-34F9EFABCCD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66B6-B877-4F99-A69A-73255641229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2034-0717-4DF1-BFF2-34CBC3B12A7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0130-AB88-4BEE-A6AC-633F467C4E54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정복지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440"/>
            <a:chOff x="0" y="0"/>
            <a:chExt cx="9358200" cy="647244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3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 적합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ging in place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 중요성 높아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4680"/>
              <a:ext cx="8715600" cy="2642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9000"/>
              <a:ext cx="8715600" cy="3043440"/>
              <a:chOff x="285480" y="3429000"/>
              <a:chExt cx="871560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900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4000320"/>
                <a:ext cx="871560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은 국토교통부 주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가구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4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저기준 미달 주택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 시 주택분양우선권 제도로 노인 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 감소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9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15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,76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2.3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증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봄이나 요양서비스 등의 의미를 지닌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란 용어가 타당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하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07880" y="58680"/>
            <a:ext cx="8593200" cy="6589440"/>
            <a:chOff x="407880" y="58680"/>
            <a:chExt cx="8593200" cy="6589440"/>
          </a:xfrm>
        </p:grpSpPr>
        <p:sp>
          <p:nvSpPr>
            <p:cNvPr id="531" name="AutoShape 2"/>
            <p:cNvSpPr/>
            <p:nvPr/>
          </p:nvSpPr>
          <p:spPr>
            <a:xfrm>
              <a:off x="428040" y="387000"/>
              <a:ext cx="843012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499680" y="387000"/>
              <a:ext cx="850140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을 보장하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,0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입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0%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,38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7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40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07880" y="2171520"/>
              <a:ext cx="8552160" cy="447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499680" y="2197080"/>
              <a:ext cx="8460000" cy="44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2000"/>
                </a:lnSpc>
                <a:spcBef>
                  <a:spcPts val="201"/>
                </a:spcBef>
                <a:buSzPct val="10295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16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9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 수급자 노인 중 희망자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 검사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1600" spc="-1" strike="noStrike">
                  <a:solidFill>
                    <a:srgbClr val="003366"/>
                  </a:solidFill>
                  <a:latin typeface="HY강M"/>
                  <a:ea typeface="HY강M"/>
                </a:rPr>
                <a:t>2003</a:t>
              </a:r>
              <a:r>
                <a:rPr b="1" lang="ko-KR" sz="1600" spc="-1" strike="noStrike">
                  <a:solidFill>
                    <a:srgbClr val="003366"/>
                  </a:solidFill>
                  <a:latin typeface="HY강M"/>
                  <a:ea typeface="HY강M"/>
                </a:rPr>
                <a:t>년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지원사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틀니 및 임플란트 지원사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201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완전 및 부분 틀니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회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플란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까지 건강보험 적용하고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본인부담금은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0%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999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노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료 또는 실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식사 및 밑반찬배달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료 독감예방접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5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국민건강보험공단의 경로당 등에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 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운동 전문인력 파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40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7"/>
          <p:cNvGrpSpPr/>
          <p:nvPr/>
        </p:nvGrpSpPr>
        <p:grpSpPr>
          <a:xfrm>
            <a:off x="250920" y="58680"/>
            <a:ext cx="8785080" cy="6411240"/>
            <a:chOff x="250920" y="58680"/>
            <a:chExt cx="8785080" cy="6411240"/>
          </a:xfrm>
        </p:grpSpPr>
        <p:sp>
          <p:nvSpPr>
            <p:cNvPr id="538" name="AutoShape 2"/>
            <p:cNvSpPr/>
            <p:nvPr/>
          </p:nvSpPr>
          <p:spPr>
            <a:xfrm>
              <a:off x="250920" y="349200"/>
              <a:ext cx="8749800" cy="612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Text Box 6"/>
            <p:cNvSpPr/>
            <p:nvPr/>
          </p:nvSpPr>
          <p:spPr>
            <a:xfrm>
              <a:off x="534960" y="435600"/>
              <a:ext cx="8501040" cy="55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대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9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최초의 치매노인보호대책 수립 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12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치매관리법 제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치매국가책임제 실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 치매관리종합계획 수립 등 지속적 확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전달체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복지부 치매정책과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-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앙 및 광역치매센터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-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군구 치매안심센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예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기진단 등의 치매통합관리서비스 제공으로 치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증화 억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비용 경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환자와 가족 등의 삶의 질 향상에 기여하는데 목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유형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군구 보건소에 전담조직 설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자체가 센터 유형 선택 설치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11-10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력과 조직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장 보건소장 겸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등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 심리사 등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11-1 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주요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 및 등록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기검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선별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단 및 감별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3.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예방관리 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예방실천행동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위험군 인지강화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4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환자 쉼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 자극프로그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5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지원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가능 노인 인식표보급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치료관리비 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호물품 제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맞춤형 사례관리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6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가족 및 보호자 지원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헤아림 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오프라인 치매가족 자조모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힐링프로 그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반 치매환자 보호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7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인식개선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극복의 날 등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8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파트너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안심마을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마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10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지원강화사업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주요사업 추진 흐름도 그림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2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안심병원 및 공립치매전문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안심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병동 지정 운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실종노인 예방 및 찾기 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인식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감지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체크앱 배회감지기 등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공공후견사업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에 대해서는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9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장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절 참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직사각형 3"/>
            <p:cNvSpPr/>
            <p:nvPr/>
          </p:nvSpPr>
          <p:spPr>
            <a:xfrm>
              <a:off x="42840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치매국가책임제와 치매관리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그룹 8"/>
          <p:cNvGrpSpPr/>
          <p:nvPr/>
        </p:nvGrpSpPr>
        <p:grpSpPr>
          <a:xfrm>
            <a:off x="399960" y="500040"/>
            <a:ext cx="8601120" cy="5881680"/>
            <a:chOff x="399960" y="500040"/>
            <a:chExt cx="8601120" cy="5881680"/>
          </a:xfrm>
        </p:grpSpPr>
        <p:grpSp>
          <p:nvGrpSpPr>
            <p:cNvPr id="542" name="그룹 6"/>
            <p:cNvGrpSpPr/>
            <p:nvPr/>
          </p:nvGrpSpPr>
          <p:grpSpPr>
            <a:xfrm>
              <a:off x="429120" y="500040"/>
              <a:ext cx="8571960" cy="2106720"/>
              <a:chOff x="429120" y="500040"/>
              <a:chExt cx="8571960" cy="210672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429840" y="887400"/>
                <a:ext cx="8428320" cy="1719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500400" y="898560"/>
                <a:ext cx="850068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명의료결정법에 의거하여 말기환자와 그 가족에 대해 호스피스 및 완화의료지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문기관 지정하여 인건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설장비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프로그램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비 지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2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05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호스피스 전문기관 지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내용 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장 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절 참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사 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설치 반대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3"/>
              <p:cNvSpPr/>
              <p:nvPr/>
            </p:nvSpPr>
            <p:spPr>
              <a:xfrm>
                <a:off x="429120" y="500040"/>
                <a:ext cx="621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호스피스 및 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6" name="AutoShape 2"/>
            <p:cNvSpPr/>
            <p:nvPr/>
          </p:nvSpPr>
          <p:spPr>
            <a:xfrm>
              <a:off x="428400" y="3236760"/>
              <a:ext cx="8429760" cy="314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 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가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나 시설에서 요양서비스를 제공하여 노후의 건강증진 및 생활안정 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치료 등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해서는 국민건강보험의 적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>
              <a:off x="399960" y="2781360"/>
              <a:ext cx="37148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214200" y="214200"/>
            <a:ext cx="8858520" cy="6000840"/>
            <a:chOff x="214200" y="214200"/>
            <a:chExt cx="8858520" cy="6000840"/>
          </a:xfrm>
        </p:grpSpPr>
        <p:sp>
          <p:nvSpPr>
            <p:cNvPr id="549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672480"/>
              <a:ext cx="878724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질환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1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21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4.7% 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등급인정자는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.7%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장기요양 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Text Box 6"/>
            <p:cNvSpPr/>
            <p:nvPr/>
          </p:nvSpPr>
          <p:spPr>
            <a:xfrm>
              <a:off x="285480" y="3133800"/>
              <a:ext cx="8787240" cy="30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19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6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928440"/>
              <a:ext cx="8572680" cy="51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2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12.27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1-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30-71,9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7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6,3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,330-69,98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7,050-58,0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5,4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2,48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6,530-55,8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(202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기준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 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52,0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95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021,3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73,9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용구급여는 한도액 미적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(202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기준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4"/>
          <p:cNvGrpSpPr/>
          <p:nvPr/>
        </p:nvGrpSpPr>
        <p:grpSpPr>
          <a:xfrm>
            <a:off x="142920" y="396720"/>
            <a:ext cx="8786880" cy="6086880"/>
            <a:chOff x="142920" y="396720"/>
            <a:chExt cx="8786880" cy="6086880"/>
          </a:xfrm>
        </p:grpSpPr>
        <p:sp>
          <p:nvSpPr>
            <p:cNvPr id="560" name="AutoShape 2"/>
            <p:cNvSpPr/>
            <p:nvPr/>
          </p:nvSpPr>
          <p:spPr>
            <a:xfrm>
              <a:off x="142920" y="858600"/>
              <a:ext cx="8786880" cy="528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Text Box 6"/>
            <p:cNvSpPr/>
            <p:nvPr/>
          </p:nvSpPr>
          <p:spPr>
            <a:xfrm>
              <a:off x="176040" y="1052280"/>
              <a:ext cx="8644320" cy="54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민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부당청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거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유로 시군구청장은 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직사각형 6"/>
            <p:cNvSpPr/>
            <p:nvPr/>
          </p:nvSpPr>
          <p:spPr>
            <a:xfrm>
              <a:off x="285480" y="3967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5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4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5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 및 후속조치 강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 및 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으로 전문역량 부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의 노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맞춤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도상의 문제점 지속 보완 및 관련 서비스와의 연계성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8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클라이언트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                   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해 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그룹 8"/>
          <p:cNvGrpSpPr/>
          <p:nvPr/>
        </p:nvGrpSpPr>
        <p:grpSpPr>
          <a:xfrm>
            <a:off x="142920" y="139680"/>
            <a:ext cx="8858160" cy="6145560"/>
            <a:chOff x="142920" y="139680"/>
            <a:chExt cx="8858160" cy="6145560"/>
          </a:xfrm>
        </p:grpSpPr>
        <p:sp>
          <p:nvSpPr>
            <p:cNvPr id="574" name="AutoShape 4"/>
            <p:cNvSpPr/>
            <p:nvPr/>
          </p:nvSpPr>
          <p:spPr>
            <a:xfrm>
              <a:off x="214200" y="139680"/>
              <a:ext cx="42861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2"/>
            <p:cNvSpPr/>
            <p:nvPr/>
          </p:nvSpPr>
          <p:spPr>
            <a:xfrm>
              <a:off x="142920" y="1214280"/>
              <a:ext cx="8858160" cy="28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7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8" name="AutoShape 2"/>
            <p:cNvSpPr/>
            <p:nvPr/>
          </p:nvSpPr>
          <p:spPr>
            <a:xfrm>
              <a:off x="142920" y="4624200"/>
              <a:ext cx="885816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Text Box 6"/>
            <p:cNvSpPr/>
            <p:nvPr/>
          </p:nvSpPr>
          <p:spPr>
            <a:xfrm>
              <a:off x="179280" y="4653000"/>
              <a:ext cx="878688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노인돌봄기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 사회관계활성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업 등을 통합하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맞춤돌봄서비스로 전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재 노인맞춤돌봄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중증장애인 응급안전알림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공동생활홈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폐지수집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발굴보호사업 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그룹 1"/>
          <p:cNvGrpSpPr/>
          <p:nvPr/>
        </p:nvGrpSpPr>
        <p:grpSpPr>
          <a:xfrm>
            <a:off x="79200" y="549360"/>
            <a:ext cx="8985600" cy="5972040"/>
            <a:chOff x="79200" y="549360"/>
            <a:chExt cx="8985600" cy="5972040"/>
          </a:xfrm>
        </p:grpSpPr>
        <p:sp>
          <p:nvSpPr>
            <p:cNvPr id="582" name="AutoShape 2"/>
            <p:cNvSpPr/>
            <p:nvPr/>
          </p:nvSpPr>
          <p:spPr>
            <a:xfrm>
              <a:off x="79200" y="549360"/>
              <a:ext cx="8956440" cy="5972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Text Box 6"/>
            <p:cNvSpPr/>
            <p:nvPr/>
          </p:nvSpPr>
          <p:spPr>
            <a:xfrm>
              <a:off x="252000" y="622080"/>
              <a:ext cx="8812800" cy="57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일상생활 영위가 어려운 취약노인에게 적절한 돌봄서비스를 제공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안정적 노후생활 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기능과 건강유지 및 악화 예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상위계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또는 기초수급자로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가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손가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령부부 가구 노인 중에서 신체 기능저하나 정신적 어려움으로 돌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로 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사 및 자살위험이 높은 노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 등급판정자 등 제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대상유형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화서비스 대상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기능 제한으로 일상생활지원이 필요한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6-4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간서비스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단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애로로 돌봄이 필요한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간 미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화서비스 대상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단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증 등으로 집중서비스 필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살예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대상자 선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등이 서비스 이용신청을 하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담사회복지사가 사회영역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영역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신영역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지표로 구성된 대상자 선정조사지에 의거하여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사하고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 영역별 지원 필요도를 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로 평가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으로 점수 집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영역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 또는 정신영역 중 또는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이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영역 중 이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 또는 정신영역 중 또는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이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내용 및 제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담사회복지사가 개인별 서비스 계획 수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관리사가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계서비스 등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4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을 제공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특화서비스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사와 자살위험이 높은 노인을 은둔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형으로 구분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은둔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치료 또는 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들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후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4" name="직사각형 29"/>
          <p:cNvSpPr/>
          <p:nvPr/>
        </p:nvSpPr>
        <p:spPr>
          <a:xfrm>
            <a:off x="34920" y="152280"/>
            <a:ext cx="6215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노인맞춤돌봄서비스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2"/>
          <p:cNvSpPr/>
          <p:nvPr/>
        </p:nvSpPr>
        <p:spPr>
          <a:xfrm>
            <a:off x="204840" y="4724280"/>
            <a:ext cx="8786880" cy="17146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6" name="그룹 1"/>
          <p:cNvGrpSpPr/>
          <p:nvPr/>
        </p:nvGrpSpPr>
        <p:grpSpPr>
          <a:xfrm>
            <a:off x="61920" y="469800"/>
            <a:ext cx="8937720" cy="3787920"/>
            <a:chOff x="61920" y="469800"/>
            <a:chExt cx="8937720" cy="3787920"/>
          </a:xfrm>
        </p:grpSpPr>
        <p:sp>
          <p:nvSpPr>
            <p:cNvPr id="587" name="AutoShape 2"/>
            <p:cNvSpPr/>
            <p:nvPr/>
          </p:nvSpPr>
          <p:spPr>
            <a:xfrm>
              <a:off x="356760" y="469800"/>
              <a:ext cx="8642880" cy="139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8" name="AutoShape 2"/>
            <p:cNvSpPr/>
            <p:nvPr/>
          </p:nvSpPr>
          <p:spPr>
            <a:xfrm>
              <a:off x="214200" y="2349000"/>
              <a:ext cx="8785440" cy="1908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6"/>
            <p:cNvSpPr/>
            <p:nvPr/>
          </p:nvSpPr>
          <p:spPr>
            <a:xfrm>
              <a:off x="285480" y="2349360"/>
              <a:ext cx="864432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공동생활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을 지원함으로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환경 등의 문제 해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도시지역 독거노인을 위해 주거지가 없거나 주거가 열악한 저소득 노인이 다가구 주택 등에서 공동생활을 할 수 있도록 임대료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자체의 자체 운영 또는 조례제정으로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Text Box 6"/>
            <p:cNvSpPr/>
            <p:nvPr/>
          </p:nvSpPr>
          <p:spPr>
            <a:xfrm>
              <a:off x="61920" y="475920"/>
              <a:ext cx="892836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중증장애인 응급안전알림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독거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과 중증장애인의 안전확인과 응급구조 정보시스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사랑잇기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봉사활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세대결연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1" name="직사각형 11"/>
          <p:cNvSpPr/>
          <p:nvPr/>
        </p:nvSpPr>
        <p:spPr>
          <a:xfrm>
            <a:off x="144360" y="73080"/>
            <a:ext cx="8399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1900" spc="-1" strike="noStrike">
                <a:solidFill>
                  <a:srgbClr val="c00000"/>
                </a:solidFill>
                <a:latin typeface="Arial"/>
              </a:rPr>
              <a:t>독거노인 중증장애인 응급안전알림서비스와 독거노인 사랑잇기서비스</a:t>
            </a:r>
            <a:r>
              <a:rPr b="0" lang="en-US" sz="19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직사각형 12"/>
          <p:cNvSpPr/>
          <p:nvPr/>
        </p:nvSpPr>
        <p:spPr>
          <a:xfrm>
            <a:off x="214200" y="1952640"/>
            <a:ext cx="83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독거노인 공동생활 홈서비스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직사각형 13"/>
          <p:cNvSpPr/>
          <p:nvPr/>
        </p:nvSpPr>
        <p:spPr>
          <a:xfrm>
            <a:off x="254160" y="4365720"/>
            <a:ext cx="84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폐지수집노인 발굴</a:t>
            </a:r>
            <a:r>
              <a:rPr b="0" lang="ko-KR" sz="2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〮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보호사업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61920" y="4724280"/>
            <a:ext cx="892980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>
              <a:lnSpc>
                <a:spcPct val="100000"/>
              </a:lnSpc>
              <a:spcBef>
                <a:spcPts val="601"/>
              </a:spcBef>
              <a:buClr>
                <a:srgbClr val="111f6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11f65"/>
                </a:solidFill>
                <a:latin typeface="HY강M"/>
                <a:ea typeface="HY강M"/>
              </a:rPr>
              <a:t> 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고령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저소득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위험노출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건강문제 등 취약요소가 많은 폐지수집 노인을 발굴하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필요한 보건복지서비스를 강화하여 복지사각지대 해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buClr>
                <a:srgbClr val="111f6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맞춤형 복지팀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노인맞춤돌봄서비스 인력을 활용하여 지자체 노인복지사업과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민간자원과 연계하여 소득 및 노인일자리 참여 지원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주거지원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건강의료서비스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돌봄안전서비스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방한용품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교통안전용품 등 제공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그룹 10"/>
          <p:cNvGrpSpPr/>
          <p:nvPr/>
        </p:nvGrpSpPr>
        <p:grpSpPr>
          <a:xfrm>
            <a:off x="142920" y="146160"/>
            <a:ext cx="8858160" cy="6140520"/>
            <a:chOff x="142920" y="146160"/>
            <a:chExt cx="8858160" cy="6140520"/>
          </a:xfrm>
        </p:grpSpPr>
        <p:grpSp>
          <p:nvGrpSpPr>
            <p:cNvPr id="596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9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Text Box 6"/>
            <p:cNvSpPr/>
            <p:nvPr/>
          </p:nvSpPr>
          <p:spPr>
            <a:xfrm>
              <a:off x="214200" y="1388880"/>
              <a:ext cx="8786880" cy="26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보교환 장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6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단순소일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냉난방연료비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10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과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2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모범경로당 지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 사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사회참여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건강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교육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상담 및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욕구평가 사업을 실시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정보센터와 학대노인지킴이센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기능 수행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순회프로그램지도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군구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214200" y="4318200"/>
              <a:ext cx="87868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5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6" name="Text Box 6"/>
            <p:cNvSpPr/>
            <p:nvPr/>
          </p:nvSpPr>
          <p:spPr>
            <a:xfrm>
              <a:off x="214200" y="257040"/>
              <a:ext cx="8748720" cy="34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목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실현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 노후를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 여건조성과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 다양화와 내실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 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돌봄 요양서비스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8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29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12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13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6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7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8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차상위계층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적 고립상태노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긴급지원 필요 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각지대 노인발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례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안전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 및 정보제공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경제적 위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회적 위기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권리옹호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 등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1-16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 이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서비스 통합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5"/>
          <p:cNvGrpSpPr/>
          <p:nvPr/>
        </p:nvGrpSpPr>
        <p:grpSpPr>
          <a:xfrm>
            <a:off x="142920" y="214200"/>
            <a:ext cx="8858160" cy="6022440"/>
            <a:chOff x="142920" y="214200"/>
            <a:chExt cx="8858160" cy="6022440"/>
          </a:xfrm>
        </p:grpSpPr>
        <p:sp>
          <p:nvSpPr>
            <p:cNvPr id="621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2"/>
            <p:cNvSpPr/>
            <p:nvPr/>
          </p:nvSpPr>
          <p:spPr>
            <a:xfrm>
              <a:off x="142920" y="836280"/>
              <a:ext cx="8858160" cy="5400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6"/>
            <p:cNvSpPr/>
            <p:nvPr/>
          </p:nvSpPr>
          <p:spPr>
            <a:xfrm>
              <a:off x="214200" y="1122480"/>
              <a:ext cx="878688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담 등 제공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호기간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-6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그룹 6"/>
          <p:cNvGrpSpPr/>
          <p:nvPr/>
        </p:nvGrpSpPr>
        <p:grpSpPr>
          <a:xfrm>
            <a:off x="285840" y="71280"/>
            <a:ext cx="8643960" cy="6073920"/>
            <a:chOff x="285840" y="71280"/>
            <a:chExt cx="8643960" cy="6073920"/>
          </a:xfrm>
        </p:grpSpPr>
        <p:grpSp>
          <p:nvGrpSpPr>
            <p:cNvPr id="625" name="그룹 22"/>
            <p:cNvGrpSpPr/>
            <p:nvPr/>
          </p:nvGrpSpPr>
          <p:grpSpPr>
            <a:xfrm>
              <a:off x="285840" y="821160"/>
              <a:ext cx="8643960" cy="5324040"/>
              <a:chOff x="285840" y="821160"/>
              <a:chExt cx="8643960" cy="5324040"/>
            </a:xfrm>
          </p:grpSpPr>
          <p:sp>
            <p:nvSpPr>
              <p:cNvPr id="626" name="AutoShape 2"/>
              <p:cNvSpPr/>
              <p:nvPr/>
            </p:nvSpPr>
            <p:spPr>
              <a:xfrm>
                <a:off x="285840" y="821160"/>
                <a:ext cx="8643960" cy="5324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Text Box 6"/>
              <p:cNvSpPr/>
              <p:nvPr/>
            </p:nvSpPr>
            <p:spPr>
              <a:xfrm>
                <a:off x="500040" y="94896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 위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 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71280"/>
              <a:ext cx="5214960" cy="600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Text Box 6"/>
            <p:cNvSpPr/>
            <p:nvPr/>
          </p:nvSpPr>
          <p:spPr>
            <a:xfrm>
              <a:off x="500040" y="369396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 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 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31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32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4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5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6" name="Text Box 6"/>
              <p:cNvSpPr/>
              <p:nvPr/>
            </p:nvSpPr>
            <p:spPr>
              <a:xfrm>
                <a:off x="285120" y="357120"/>
                <a:ext cx="8748000" cy="34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 부족 및 참여저조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7" name="Text Box 6"/>
            <p:cNvSpPr/>
            <p:nvPr/>
          </p:nvSpPr>
          <p:spPr>
            <a:xfrm>
              <a:off x="285480" y="4000680"/>
              <a:ext cx="8749080" cy="15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제도 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2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431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8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원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2022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202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1.6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 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2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,514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8.5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.4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공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 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1.5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1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,0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당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정도는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공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 예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553080"/>
            <a:chOff x="0" y="0"/>
            <a:chExt cx="9144000" cy="655308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6920"/>
              <a:chOff x="323640" y="928440"/>
              <a:chExt cx="8606160" cy="235692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40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356640"/>
              <a:ext cx="8606160" cy="1146960"/>
              <a:chOff x="323640" y="3356640"/>
              <a:chExt cx="8606160" cy="114696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789000"/>
                <a:ext cx="8606160" cy="70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8610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356640"/>
                <a:ext cx="3819600" cy="435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4940640"/>
              <a:ext cx="8786880" cy="1612440"/>
              <a:chOff x="357120" y="4940640"/>
              <a:chExt cx="8786880" cy="16124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548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4940640"/>
                <a:ext cx="8715600" cy="15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 고용활성화 대책 수립 추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희망 은퇴연령까지 노동시장 참여 환경 조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과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된 일자리 계속고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취업지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술창업 지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무역량 및 고용안전망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고용인프라 확충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54356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「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</a:t>
              </a:r>
              <a:r>
                <a:rPr b="0" lang="ko-KR" sz="22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」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250920" y="260280"/>
            <a:ext cx="8788320" cy="6265080"/>
            <a:chOff x="250920" y="260280"/>
            <a:chExt cx="8788320" cy="62650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250920" y="673560"/>
              <a:ext cx="8788320" cy="5851800"/>
              <a:chOff x="250920" y="673560"/>
              <a:chExt cx="8788320" cy="5851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250920" y="673560"/>
                <a:ext cx="8788320" cy="585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691560"/>
                <a:ext cx="8534520" cy="539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노동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 정책방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에서 오래 일할 수 있도록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직근로자 고용안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고령자 계속고용 장려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 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폐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 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고용 사업주에게 근로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당 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최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간 총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령자 재취업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4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재직자 대상 전직교육과 역량진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력개발 컨설팅 제공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구직자 대상 취업알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취업지원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신중년적합직종 연계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생애경력설계서비스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신중년 대상 생애경력설계를 바탕으로 신중년 인생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모작 패키지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고령자인재은행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장년에게 취업알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재취업상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무능력 향상 교육 등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퇴직 후 사회공헌 및 일자리 지원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사회공헌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퇴직 전문인력 공헌활동 참여시 연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82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경력형 일자리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기업 경영컨설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안전 시스템 점검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자리 주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-4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간 참여시 최저임금 이상 급여 등 지급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적합직무 고용장려금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이상 구직자를 정규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무기계약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개월 이상 고용한 사업주에게 근로자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0-8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그 외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고용촉진장려금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실업자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개월 이상 고용 사업주에게 연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60-72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만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, 1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천명 이상 사업체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재취업지원서비스 의무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26028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「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</a:t>
              </a:r>
              <a:r>
                <a:rPr b="0" lang="ko-KR" sz="24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」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605800" cy="6024600"/>
            <a:chOff x="214200" y="154080"/>
            <a:chExt cx="86058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605800" cy="5540760"/>
              <a:chOff x="214200" y="637920"/>
              <a:chExt cx="86058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580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28216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지원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본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요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굴 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련기관 연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21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8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일자리 및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 신청자 중 기초연금 수급 등을 기준으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.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생계급여 및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의료급여 수급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국민건강보험 직장가입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장기요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등급 판정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등급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지지원등급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은 제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   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취업알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57:12Z</dcterms:modified>
  <cp:revision>47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